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DB0-6D3B-4E5C-9008-194CDE61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FB7-8997-4D1E-99A9-DD386F4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7CD55-C0F8-46C8-8A17-9EAC8479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E32E7-3C91-4A30-B807-F76503F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36933-B370-480F-8481-3C120AA2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04E35-C8F2-45D4-9566-85B9761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8A7B0-25AB-4203-9F1D-0C6DCFB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2440D-1542-4DB3-B4C7-D80B519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79A4A-3C75-413C-9E27-FDE80FAF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D3AFC-4166-4E70-B047-58D5AD48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4BD90-770F-4CDA-85A8-F6B87D8A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AE7B7-4A00-432D-B1AE-108DFBAA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AD3-93CF-4B29-A8AC-AB16F45D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9FA4E-7914-43DC-B5FB-F74CAE77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543AF-124B-4F91-BD34-C146392C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7CCA0-04B7-4BC7-B866-6B26B2FE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805A1-AEEF-4258-9EDC-5B502570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D1D08-7E5B-482C-A3C7-7C03994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8B8E3-2F59-4CFF-956C-E628CED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2E931-4A0B-4476-B3F0-A774E8C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D7D72-A843-476B-AA7B-5CA5D86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2F2E0-BA18-42B2-9362-1C53E5C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85D5B-357B-491F-9A27-8C398058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688-536D-4B8B-ADC7-63167DED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849D0-F763-4262-9F9E-0F9B0E8B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2900A-9F37-4B76-822C-835B7D23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41E16-4E51-48F9-AF5E-33321EB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C04CC-FBE2-49AA-9F7F-BCB0CF1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FBDA8-6162-4518-B3C2-5B29DD4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B7203-BE81-45B1-BE9E-B7F5658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52C2-AC53-4E71-8282-87DF725E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65D77-B4FB-4A73-8E47-9E20FEC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C74C-6E72-4B0C-B7C4-715C0DDE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6B79-0DB9-4689-B59E-62D4ECB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300D-A980-4F64-B672-5E4D2DF9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6A61-BD54-4868-9BED-F4B37DE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65BCC-A88E-4562-BFA6-3C23FB1F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CD92-7944-4674-B709-6CE3CE78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0C2BD-E7D2-4C43-A593-88D7F986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B2E2B-8D9C-4F50-A85B-B5FE81B2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88696-F531-4A5C-8758-65FCE2E9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ABE11-E508-49B8-8954-4F39D439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83EA5-733C-4336-8D6B-8C64D032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DF50B-854E-422E-AC48-716131E6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78E10-5B21-45AE-B65D-0E97906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7528-D1B2-40E7-A965-BF72A834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68F5D-EF96-4754-B807-FBE6B5A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BFF6B-D0E9-4FE8-BF67-CA56C0B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50C35-0775-42B9-9E68-931EE971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875B6-BEB8-4124-A0CD-13CC5DF2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47E4E-71A2-478C-B59B-02F665EC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968-3099-45F0-9125-A0119034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671F-F056-4CD1-8213-0EE28DB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1269-7B0F-41BB-A149-A6226F7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718F-177B-4AEE-B6FC-7EF8EA38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15AA-91C9-44E3-BC22-5C11F68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2DA-16FB-4DB9-AE32-DE01198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50E2-9508-4BAA-92B0-2666978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C9A-D2E6-4BD7-85FD-4FC6C4B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4D5-ACB5-4C01-94B5-46B8E3C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2EE-1604-4BCC-A84F-257A9F39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2291-512F-4B7A-9A13-066AE3AE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FFA3-C2C7-405F-B4F5-25E0C138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6408-F8AA-4F59-8F26-8E088A43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1CB3-EEAD-444C-8948-2B7FE5E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14B0-9AB3-4E9A-845F-758D0B21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03BB-944B-48B5-960C-CB6DC3B7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EBF-55D8-45DD-AF6C-93D4025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DC02-2999-4EBD-A855-18C1FD4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AE88-DCBF-4D01-834E-CD2C197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7CA9-77CC-4C9D-A5F7-FE86BD9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4D7C-4BED-4770-A217-D8747AF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DDED-5E7B-44E2-8A40-4EBFA530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AC63-2922-4B4A-880D-88ADD60A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0CDA-A596-4461-B0F1-B1F27961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19FA-AF81-48B9-AF75-6377BF6B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DEC4-0847-4D93-9810-03FF135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C613-554E-4A73-B413-EAC1761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DE8-A8AD-4E75-BE4A-CDE9076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8EFA-42D1-48F4-A840-79E015E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3743-38AE-438D-A855-3656AAB6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3E2F-34B4-4D25-A249-92AB343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A28B-3B32-4605-ABFA-2D17DBD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6C73-181A-4576-A8EB-2296D11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34FC-22C1-46F2-8DF2-6604DC1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7C22-E959-4A68-87B3-7AA8852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365A-0176-44E5-AED9-353A2DF5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E9D3-84C0-406E-8CFE-44D7CE9F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11B2-A424-4E14-BB01-9910F1A8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46B-4E03-4B2D-A544-A35401E7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0C9B-436D-49AF-91BE-5F9B3ED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0B90-D450-4837-AA4B-34397B2D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FF19-C081-41F5-8E4C-EAF1545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864C-E1A0-428C-889A-50EE6E0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CEDC-1FD5-469D-A94B-B37FD6A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8A6B-4F05-4F28-9F4C-E258D38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C780-7550-4B01-B651-81A6495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17CA-BE0D-4F4F-811F-73DD0AB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FBB2-794A-4249-968D-8647793C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DBE8-93EC-43E7-85DC-D8F0FAB2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F8A-4007-4745-9EC9-71767FA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B3D1-D1B6-47CC-8808-630E2A38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DED2-AFB1-4FF7-8F9C-C5AC2C29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F417E-C012-4E62-AA25-E656017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E723-DEF2-43E2-A059-FC9D13E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2BB1-3E29-4C59-88EC-0EBF98B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4FAF-E8E7-4E6E-A3F6-2735C4B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2825-FED8-47CE-AC7B-B1E82B5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BADF-F3D7-48F5-B551-A5E0A0C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50E3-53C5-4A77-AB91-601EC25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CE57-A887-4B05-99E5-0A591E8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367-98D0-4AD1-A4B3-495E974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6CE3-783E-4FAD-845E-7293E7D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93322-9571-423A-A099-5F94203D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F317-0198-4A58-AC28-7CEEFF8D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204AB-14E7-443A-8276-8D99A1D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D177-D07D-4C54-8F14-BF48B43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1808-9626-438D-8FCC-D3722D0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B810-919D-458D-987E-5A19AB5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7AF6-82CE-40E8-B4E7-2258FC4C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1999-F7F7-495F-A89F-CB63695A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0951-83B4-48D8-9E42-C74020E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822-687C-4FE0-85A1-79FEB8A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32A1-1DB2-40A0-87BA-732AFF3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9E7D8-5366-482E-B37A-C37D0D6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BA11-B866-4673-A67F-F4782286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B8FA-65B9-4345-A54B-2BF6DD2D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8EF9-C4E6-46FC-95BA-AEE46B39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8D29-60DE-4CDC-BCC6-5608EC26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C749-4997-4981-A300-18ECD7E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189E-40BA-410D-B6F2-B836FC9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66F2-8C20-402F-8805-5BCBFFF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5AC95-D30A-4879-ACA2-2ADAC82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FB7-5B51-490C-896E-7CC3039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FCF8-6775-462F-BF84-CB69021F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1419-099E-42B6-9877-C71CCD7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F6CA5-629D-4357-96CF-C1291B5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BA852-6CF1-4CCE-9C05-07F6FB4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86E2-26A0-44F8-831E-E9EDAEF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BE7F1-DFDF-4098-8DD7-4B7B71B2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8ED97-0202-4E7E-A6B8-10738527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946B5-358E-470D-884C-1E3CA0A9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A750E-1083-4E08-A6D6-1F2C228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886DC-5DCC-457A-8C62-4C16522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0541-966B-4DB5-9606-255764F8C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CF6-3231-44BE-B050-FA249868D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5162-899C-46AE-B6B2-4C4D0B294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4F6-5902-4B7A-B470-29E4FA886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0C18-83AA-4882-A038-26E213832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00F-768A-4A9E-85D3-2C36B088C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9B2-4290-489F-AFAD-ED375665B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C77-C8CE-4958-990B-5A7979CC8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476-F791-421C-8885-9C7A9DC6F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C4B-FAFA-4DE3-892A-C569A4ABE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B22A-D866-4374-B94B-8016A492C1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E05-0341-4B14-9383-9833B0459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ession 3 Small Group: Write to Lear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3" descr="C:\Users\curtosa\AppData\Local\Microsoft\Windows\Temporary Internet Files\Content.IE5\JEONLF7F\MC900413460[1].wmf"/>
          <p:cNvPicPr/>
          <p:nvPr/>
        </p:nvPicPr>
        <p:blipFill>
          <a:blip r:embed="rId1"/>
          <a:stretch/>
        </p:blipFill>
        <p:spPr>
          <a:xfrm>
            <a:off x="3200400" y="3454560"/>
            <a:ext cx="22194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21480" cy="54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Go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cross the school year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riting in EVERY classroom EVERY day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mediate goal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ET STUDENTS WRITING!!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 upon the implementation of using writing frames with stud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the three purposes for nonfiction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epen our understanding of writing fram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Admit Slip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are now nearly ½ way through our WTL professional development.  </a:t>
            </a: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iscuss how WTL has changed the atmosphere and the learning of your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ip Ar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4" descr="C:\Users\curtosa\AppData\Local\Microsoft\Windows\Temporary Internet Files\Content.IE5\SGOGTRZ9\MP900438552[1].jpg"/>
          <p:cNvPicPr/>
          <p:nvPr/>
        </p:nvPicPr>
        <p:blipFill>
          <a:blip r:embed="rId1"/>
          <a:stretch/>
        </p:blipFill>
        <p:spPr>
          <a:xfrm>
            <a:off x="4343400" y="36576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rpose of Non Fiction Wr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85800" y="1527120"/>
          <a:ext cx="7736040" cy="4572000"/>
        </p:xfrm>
        <a:graphic>
          <a:graphicData uri="http://schemas.openxmlformats.org/drawingml/2006/table">
            <a:tbl>
              <a:tblPr/>
              <a:tblGrid>
                <a:gridCol w="2577960"/>
                <a:gridCol w="2579760"/>
                <a:gridCol w="2578320"/>
              </a:tblGrid>
              <a:tr h="753480"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ngag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roces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emonstrating 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04100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provide all students with a nonthreatening opportunity to respon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engaged in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graded, not related to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help students “think” through writing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process the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ive writing a plus, check, 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uides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produce a product piece that goes through the writing proces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provided feedback through a rubric with clearly identified levels of 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llaboratively sco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Frame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re out examp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4" descr="C:\Users\curtosa\AppData\Local\Microsoft\Windows\Temporary Internet Files\Content.IE5\8OQXAXSZ\MC900123919[1].wmf"/>
          <p:cNvPicPr/>
          <p:nvPr/>
        </p:nvPicPr>
        <p:blipFill>
          <a:blip r:embed="rId1"/>
          <a:stretch/>
        </p:blipFill>
        <p:spPr>
          <a:xfrm>
            <a:off x="4952880" y="3276720"/>
            <a:ext cx="29955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igsa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member of the group will select 1 frame type from the li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bout the selected fra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y characteristics and opportunities for implementation, possibly specific to your content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the grou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rd ideas as others sha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295280"/>
            <a:ext cx="8504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Exit Slip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ive an example of a specific frame that you could use in the next week and how you will incorporate it into a les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 Next Time: bring an example of a specific frame you us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y Name: Writing to Learn-Year 1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uilding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y #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01321737120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Requires 15 hours of documented agendas for professional development provided at the building level 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ue May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57:14Z</dcterms:created>
  <dc:creator>Wildman-Swartz, Rebecca</dc:creator>
  <dc:description/>
  <dc:language>en-US</dc:language>
  <cp:lastModifiedBy>Curto, Sara</cp:lastModifiedBy>
  <dcterms:modified xsi:type="dcterms:W3CDTF">2012-02-09T18:29:11Z</dcterms:modified>
  <cp:revision>17</cp:revision>
  <dc:subject/>
  <dc:title>PowerPoint Presentation</dc:title>
</cp:coreProperties>
</file>